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D244-8847-45D4-AEAB-7052FB4D0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2F62-D00A-4886-9839-438ED0CDD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EC21-9E12-49FE-8BE3-BFBB93146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C56-E576-4D46-841E-04F6A857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925-997D-48BE-BC5B-F2DD4AE9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8EF-FDF2-44C2-9426-A2E344C4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A5A-80EC-4AA8-8C5B-F2938C89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38D-80E4-4A5A-BC8E-EDFAEBC6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B26-A583-41D4-B514-E3B0A63D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120-F25A-4636-9C3E-B1606D0F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C4E-9CED-44DB-823E-55EC6506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E77-0700-48EE-A2FE-A9EE3054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244-44BF-454E-A25E-8A090843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144D-7D60-4625-8AE5-039A8487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5B3-F589-4EF1-8ECD-1AEA7D80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2AB2-5E91-4F5C-B35E-1D37DE71C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chc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, Holly Ham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an Ro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h L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ory R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ing someone up and throwing them into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sa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n’t a witch, but they were d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floated? (like a c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a wi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time, the accused person would struggle and flail around in the water so they’d break free and swim to the top of the water any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had a “witchmar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like a mole, wart, or discoloration of 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witchmark” was considered to be where the devil touched th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one would poke them with a needle-like object on their “witchmark” and if they felt no pain then they were  said to be a 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y bleed then they were inno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was of a low social status then people sometimes thought that they could be a 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, witches were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was a studier of medicine, then people thought that they might be a 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ishing 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ditional punishment for convicted witches was being burned at the stake. This started in Europe in the witch 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was known for hanging their witches as well as burn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 England forbade it, Scotland sanctioned the torturing of witches in order to receive conf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ishing Witche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ing methods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walking or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 depr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ing, the act of putting a board on the body and putting weight on it, was also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Witch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red in Chelmsford, Essex England during 15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e about as a result of pressure from the chu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st trial to be written up in a pamphl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Frances used a cat to inflict harm on Agnes Waterhouse and her daughter Jo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was found guilty and put in jail while Agnes was h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witchh.gif"/>
          <p:cNvPicPr/>
          <p:nvPr/>
        </p:nvPicPr>
        <p:blipFill>
          <a:blip r:embed="rId1"/>
          <a:stretch/>
        </p:blipFill>
        <p:spPr>
          <a:xfrm>
            <a:off x="5562720" y="1295280"/>
            <a:ext cx="29718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d in Salem, Massachuse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2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were accused of witchcraft and 200 were put in j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uba, Sarah Good, and Sarah Osbourne were accused of witchcraft and thrown in jail due to Tituba’s conf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Owner\AppData\Local\Microsoft\Windows\Temporary Internet Files\Content.IE5\FTPW0WSL\MC900436216[1].png"/>
          <p:cNvPicPr/>
          <p:nvPr/>
        </p:nvPicPr>
        <p:blipFill>
          <a:blip r:embed="rId1"/>
          <a:stretch/>
        </p:blipFill>
        <p:spPr>
          <a:xfrm>
            <a:off x="380880" y="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Owner\AppData\Local\Microsoft\Windows\Temporary Internet Files\Content.IE5\XOZAUS8J\MC900027392[1].wmf"/>
          <p:cNvPicPr/>
          <p:nvPr/>
        </p:nvPicPr>
        <p:blipFill>
          <a:blip r:embed="rId2"/>
          <a:stretch/>
        </p:blipFill>
        <p:spPr>
          <a:xfrm>
            <a:off x="6858000" y="914400"/>
            <a:ext cx="1908000" cy="1492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witch.jpg"/>
          <p:cNvPicPr/>
          <p:nvPr/>
        </p:nvPicPr>
        <p:blipFill>
          <a:blip r:embed="rId3"/>
          <a:stretch/>
        </p:blipFill>
        <p:spPr>
          <a:xfrm>
            <a:off x="2819520" y="3962520"/>
            <a:ext cx="32004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witchcraf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 agreement hasn’t been reached on what witchcraft was, or migh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bout 3 definitions that can be used to understand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chcraft, a form of sorcery, or the magical manipulation of nature for self-aggrandizement, or for the benefit or harm of a client. This manipulation often involves the use of spirit-helpers, or familia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glander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colonists defined witchcraft as “the use of supernatural power, usually but not always for har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witches were considered hea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ir powers for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glanders defini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d some humans were darkly unnatural and possessed supernatural 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sed witches were said to abuse their powers by wreaking havoc o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tive for why witchcraft was used was how the term wa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itan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ood witchcraft as a relationship between a human being and the devi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ed for evidence of this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elling Puritans of the pain they felt when warding of Satan’s attempt to lure them they gave useful evidence for their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ans believe New England witch-craft as a way to express social and cultural anxieties among accusers rather than the harm the accused was ac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der, religion, and psychology lent bias to deciphering the meanings of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aw them performing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dmitted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HRomero1993\AppData\Local\Microsoft\Windows\Temporary Internet Files\Content.IE5\DU3GFPBJ\MC900436109[1].wmf"/>
          <p:cNvPicPr/>
          <p:nvPr/>
        </p:nvPicPr>
        <p:blipFill>
          <a:blip r:embed="rId1"/>
          <a:stretch/>
        </p:blipFill>
        <p:spPr>
          <a:xfrm>
            <a:off x="2057400" y="2819520"/>
            <a:ext cx="46483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6524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w did they determine who were witches (cont’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4800" y="1371240"/>
            <a:ext cx="51116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ars” are given to them by the d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imals that wreaked havoc on the surrounding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sively Bri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familiars"/>
          <p:cNvPicPr/>
          <p:nvPr/>
        </p:nvPicPr>
        <p:blipFill>
          <a:blip r:embed="rId1"/>
          <a:stretch/>
        </p:blipFill>
        <p:spPr>
          <a:xfrm>
            <a:off x="457200" y="1371600"/>
            <a:ext cx="3017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3:55:24Z</dcterms:created>
  <dc:creator>aps13.romeiva</dc:creator>
  <dc:description/>
  <dc:language>en-US</dc:language>
  <cp:lastModifiedBy>aps13.romeiva</cp:lastModifiedBy>
  <dcterms:modified xsi:type="dcterms:W3CDTF">2011-10-24T14:39:38Z</dcterms:modified>
  <cp:revision>28</cp:revision>
  <dc:subject/>
  <dc:title>Witchcraft</dc:title>
</cp:coreProperties>
</file>